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66E7-EE8B-4635-8747-AA033E13F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DE777-ABA6-4916-A336-9CB114FC22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3A7E8-398F-43FE-917D-CF29D8A3B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09-18T17:55:33Z</dcterms:modified>
  <cp:revision>81</cp:revision>
  <dc:subject/>
  <dc:title>One Laptop per Child</dc:title>
</cp:coreProperties>
</file>